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3EBD-23F8-4088-A07B-D15FAEFA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7960" y="469800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4F61-65A1-45E6-BA4D-4A3510AB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796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9372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A3E8-5B34-429A-9670-9D3B98F6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99640" y="215064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91320" y="215064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7960" y="469800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99640" y="469800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91320" y="469800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5FAC-B835-45FC-9BBE-8A684F38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7F84-7B96-4ADA-9653-A37989AB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8906-91BA-49A3-ADB3-532CC001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222B-06A9-4C03-8A37-9446AF23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34C0-4CAD-4727-BCFB-B2DE45AE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BD8D-7E32-41E5-BCC5-EC4D80A0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7960" y="782640"/>
            <a:ext cx="91440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AC4E-E2D0-4DB7-848A-B66C5621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796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3CFE-3D68-448E-9E28-005A43BA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0B11-DF90-45DA-8DD2-5BE1D9C9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9372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8185-148D-4073-94F2-446A033B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7960" y="469800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862B-7837-48DE-B21E-8B133E1B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7960" y="469800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273E-1842-458C-8307-B0F91E7B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796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9372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1E89-2F71-47AD-867A-C9826229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99640" y="215064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91320" y="215064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7960" y="469800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99640" y="469800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91320" y="469800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C366-2337-4898-8E23-9C1CC3C4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8BBD4-47F4-432B-AF8F-69DFD0B0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A2086-6804-4414-98BE-049455DF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4C5AF-FE33-4287-90BE-975749B8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6C635-0A06-4B4C-B59E-0CFACDBB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1EF15-B08A-45E1-A931-3E5C2625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A02B-BC7D-4BB7-97CA-35B53321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7960" y="782640"/>
            <a:ext cx="91440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A6063-9AEE-4EEA-B0F8-BF2B38C0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796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B6485-237D-49F4-98FE-16F432FC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9372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88C84-7B55-45E4-A812-E793DB2D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7960" y="469800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4F4ED-BDED-4979-9067-51631385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7960" y="469800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2267C-0DBC-4E7F-9B6A-83C0BB62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796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9372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3DAF6-C3B6-43C4-9107-2811B57D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99640" y="215064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91320" y="215064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7960" y="469800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99640" y="469800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91320" y="469800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1D6B0-5C23-4106-B148-AE046C39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3F36D-A822-45C4-8391-FEDDC565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CBF9C-6709-4646-A23A-37C904EE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93811-0565-4F45-8B4A-553A4E49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492-B1E4-4DDB-81AF-3C592B2C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6765B-126C-453C-9191-71DC7DB5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0AF73-8394-4784-A75C-D2ED16D7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7960" y="782640"/>
            <a:ext cx="91440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E8A15-EA11-4ED9-8166-B15F87C7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796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11FD8-7413-4063-8EB8-49E69F29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9372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4F407-1D65-4A07-AFBE-0E8DFB21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7960" y="469800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7BD3E-97F6-481C-BC79-DDCA06B2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7960" y="469800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4ABAC-5A4D-4FE5-BBA2-A5AE4875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796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9372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E69A6-EA69-450D-8873-F20AA03E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99640" y="215064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691320" y="215064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7960" y="469800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99640" y="469800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691320" y="469800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60E0A-D71D-4583-9FD4-D70601DE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682C-EE0C-4027-B519-98BD792A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7960" y="782640"/>
            <a:ext cx="91440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6E7-D888-42D0-89D4-399ABEE7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796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3B5B-467A-4066-9014-39A74611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9372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DB92-FFE6-4345-9E93-B4BF763F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7960" y="469800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A08-235D-404E-89DC-36EEE273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11160" y="-7920"/>
            <a:ext cx="10182240" cy="1157400"/>
          </a:xfrm>
          <a:custGeom>
            <a:avLst/>
            <a:gdLst>
              <a:gd name="textAreaLeft" fmla="*/ 0 w 10182240"/>
              <a:gd name="textAreaRight" fmla="*/ 10182600 w 10182240"/>
              <a:gd name="textAreaTop" fmla="*/ 0 h 1157400"/>
              <a:gd name="textAreaBottom" fmla="*/ 1157760 h 11574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869000" y="-7920"/>
            <a:ext cx="5290920" cy="709560"/>
          </a:xfrm>
          <a:custGeom>
            <a:avLst/>
            <a:gdLst>
              <a:gd name="textAreaLeft" fmla="*/ 0 w 5290920"/>
              <a:gd name="textAreaRight" fmla="*/ 5291280 w 52909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9560" indent="-272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14480" indent="-273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19040" indent="-23328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23960" indent="-23328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23960" indent="-23328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23960" indent="-23328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7960" y="7062840"/>
            <a:ext cx="237024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63520" y="7062840"/>
            <a:ext cx="372420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805960" y="7062840"/>
            <a:ext cx="84600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8C51-DD6C-412E-827F-EF5EA5090525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20520" y="225360"/>
            <a:ext cx="10199880" cy="720720"/>
            <a:chOff x="-20520" y="225360"/>
            <a:chExt cx="10199880" cy="72072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20520" y="225360"/>
              <a:ext cx="10175400" cy="720720"/>
              <a:chOff x="-20520" y="225360"/>
              <a:chExt cx="10175400" cy="72072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5360"/>
                <a:ext cx="1014948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532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20520" y="277920"/>
              <a:ext cx="10199880" cy="623160"/>
              <a:chOff x="-20520" y="277920"/>
              <a:chExt cx="10199880" cy="62316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7920"/>
                <a:ext cx="10182240" cy="62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0160" y="582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11160" y="-7920"/>
            <a:ext cx="10182240" cy="1157400"/>
          </a:xfrm>
          <a:custGeom>
            <a:avLst/>
            <a:gdLst>
              <a:gd name="textAreaLeft" fmla="*/ 0 w 10182240"/>
              <a:gd name="textAreaRight" fmla="*/ 10182600 w 10182240"/>
              <a:gd name="textAreaTop" fmla="*/ 0 h 1157400"/>
              <a:gd name="textAreaBottom" fmla="*/ 1157760 h 11574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869000" y="-7920"/>
            <a:ext cx="5290920" cy="709560"/>
          </a:xfrm>
          <a:custGeom>
            <a:avLst/>
            <a:gdLst>
              <a:gd name="textAreaLeft" fmla="*/ 0 w 5290920"/>
              <a:gd name="textAreaRight" fmla="*/ 5291280 w 52909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20520" y="225360"/>
            <a:ext cx="10199880" cy="720720"/>
            <a:chOff x="-20520" y="225360"/>
            <a:chExt cx="10199880" cy="72072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20520" y="225360"/>
              <a:ext cx="10175400" cy="720720"/>
              <a:chOff x="-20520" y="225360"/>
              <a:chExt cx="10175400" cy="72072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5360"/>
                <a:ext cx="1014948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532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20520" y="277920"/>
              <a:ext cx="10199880" cy="623160"/>
              <a:chOff x="-20520" y="277920"/>
              <a:chExt cx="10199880" cy="62316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7920"/>
                <a:ext cx="10182240" cy="62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0160" y="582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9560" indent="-272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14480" indent="-273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19040" indent="-23328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23960" indent="-23328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23960" indent="-23328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23960" indent="-23328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7960" y="7062840"/>
            <a:ext cx="237024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963520" y="7062840"/>
            <a:ext cx="372420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805960" y="7062840"/>
            <a:ext cx="84600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F102-63FB-4CEE-8B24-E77BD04F9183}" type="slidenum">
              <a:rPr b="0" lang="en-US" sz="13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11160" y="-7920"/>
            <a:ext cx="10182240" cy="1157400"/>
          </a:xfrm>
          <a:custGeom>
            <a:avLst/>
            <a:gdLst>
              <a:gd name="textAreaLeft" fmla="*/ 0 w 10182240"/>
              <a:gd name="textAreaRight" fmla="*/ 10182600 w 10182240"/>
              <a:gd name="textAreaTop" fmla="*/ 0 h 1157400"/>
              <a:gd name="textAreaBottom" fmla="*/ 1157760 h 11574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869000" y="-7920"/>
            <a:ext cx="5290920" cy="709560"/>
          </a:xfrm>
          <a:custGeom>
            <a:avLst/>
            <a:gdLst>
              <a:gd name="textAreaLeft" fmla="*/ 0 w 5290920"/>
              <a:gd name="textAreaRight" fmla="*/ 5291280 w 52909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20520" y="225360"/>
            <a:ext cx="10199880" cy="720720"/>
            <a:chOff x="-20520" y="225360"/>
            <a:chExt cx="10199880" cy="72072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20520" y="225360"/>
              <a:ext cx="10175400" cy="720720"/>
              <a:chOff x="-20520" y="225360"/>
              <a:chExt cx="10175400" cy="72072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5360"/>
                <a:ext cx="1014948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532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20520" y="277920"/>
              <a:ext cx="10199880" cy="623160"/>
              <a:chOff x="-20520" y="277920"/>
              <a:chExt cx="10199880" cy="62316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7920"/>
                <a:ext cx="10182240" cy="62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0160" y="582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9560" indent="-272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14480" indent="-273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19040" indent="-23328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23960" indent="-23328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23960" indent="-23328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23960" indent="-23328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07960" y="7062840"/>
            <a:ext cx="237024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963520" y="7062840"/>
            <a:ext cx="372420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805960" y="7062840"/>
            <a:ext cx="84600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8544-7F20-4666-842C-4AB702C90DFB}" type="slidenum">
              <a:rPr b="0" lang="en-US" sz="13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517920" y="1230840"/>
            <a:ext cx="5842080" cy="4572360"/>
          </a:xfrm>
          <a:custGeom>
            <a:avLst/>
            <a:gdLst>
              <a:gd name="textAreaLeft" fmla="*/ 0 w 5842080"/>
              <a:gd name="textAreaRight" fmla="*/ 5758920 w 5842080"/>
              <a:gd name="textAreaTop" fmla="*/ -360 h 4572360"/>
              <a:gd name="textAreaBottom" fmla="*/ 4572360 h 4572360"/>
            </a:gdLst>
            <a:ahLst/>
            <a:rect l="textAreaLeft" t="textAreaTop" r="textAreaRight" b="textAreaBottom"/>
            <a:pathLst>
              <a:path w="5842000" h="4572000">
                <a:moveTo>
                  <a:pt x="0" y="0"/>
                </a:moveTo>
                <a:lnTo>
                  <a:pt x="5675305" y="0"/>
                </a:lnTo>
                <a:lnTo>
                  <a:pt x="5842000" y="166695"/>
                </a:lnTo>
                <a:lnTo>
                  <a:pt x="5842000" y="4572000"/>
                </a:lnTo>
                <a:lnTo>
                  <a:pt x="0" y="457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893080" y="5953680"/>
            <a:ext cx="173160" cy="173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10800" y="6462000"/>
            <a:ext cx="10182240" cy="1157400"/>
          </a:xfrm>
          <a:custGeom>
            <a:avLst/>
            <a:gdLst>
              <a:gd name="textAreaLeft" fmla="*/ 0 w 10182240"/>
              <a:gd name="textAreaRight" fmla="*/ 10182600 w 10182240"/>
              <a:gd name="textAreaTop" fmla="*/ -360 h 1157400"/>
              <a:gd name="textAreaBottom" fmla="*/ 1157400 h 11574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869000" y="6909840"/>
            <a:ext cx="5290920" cy="709560"/>
          </a:xfrm>
          <a:custGeom>
            <a:avLst/>
            <a:gdLst>
              <a:gd name="textAreaLeft" fmla="*/ 0 w 5290920"/>
              <a:gd name="textAreaRight" fmla="*/ 5291280 w 5290920"/>
              <a:gd name="textAreaTop" fmla="*/ -360 h 709560"/>
              <a:gd name="textAreaBottom" fmla="*/ 709560 h 70956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9560" indent="-272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14480" indent="-273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19040" indent="-23328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23960" indent="-23328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23960" indent="-23328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23960" indent="-23328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507960" y="7062840"/>
            <a:ext cx="237024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963520" y="7062840"/>
            <a:ext cx="372420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973720" y="7062840"/>
            <a:ext cx="67788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F619-DBB9-4D0E-9A77-712C0E77EFBF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" descr="figure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pic>
        <p:nvPicPr>
          <p:cNvPr id="196" name="Rectangle 1" descr=""/>
          <p:cNvPicPr/>
          <p:nvPr/>
        </p:nvPicPr>
        <p:blipFill>
          <a:blip r:embed="rId2"/>
          <a:stretch/>
        </p:blipFill>
        <p:spPr>
          <a:xfrm>
            <a:off x="3395520" y="-615960"/>
            <a:ext cx="7296120" cy="65898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6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n-US" sz="5600" spc="-1" strike="noStrike">
                <a:solidFill>
                  <a:srgbClr val="04617b"/>
                </a:solidFill>
                <a:latin typeface="Calibri"/>
              </a:rPr>
              <a:t>My dad always catches me right before I do something.</a:t>
            </a:r>
            <a:r>
              <a:rPr b="0" lang="ja-JP" sz="5600" spc="-1" strike="noStrike">
                <a:solidFill>
                  <a:srgbClr val="04617b"/>
                </a:solidFill>
                <a:latin typeface="Calibri"/>
              </a:rPr>
              <a:t>”</a:t>
            </a: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1000"/>
          </a:bodyPr>
          <a:p>
            <a:pPr marL="275760" indent="-27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</a:t>
            </a:r>
            <a:r>
              <a:rPr b="0" lang="ja-JP" sz="3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 as if he has 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eyes in the back of his head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7576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7576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7576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060"/>
                </a:solidFill>
                <a:latin typeface="Constantia"/>
              </a:rPr>
              <a:t>Figurative or metaphorical 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meaning: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7576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My dad is very observant or aware of everything I do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7576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75760">
              <a:spcBef>
                <a:spcPts val="72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900" spc="-1" strike="noStrike">
                <a:solidFill>
                  <a:srgbClr val="002060"/>
                </a:solidFill>
                <a:latin typeface="Constantia"/>
              </a:rPr>
              <a:t>Literal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meaning: 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5760" indent="-27576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next slide---&gt;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ja-JP" sz="56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n-US" sz="5600" spc="-1" strike="noStrike">
                <a:solidFill>
                  <a:srgbClr val="04617b"/>
                </a:solidFill>
                <a:latin typeface="Calibri"/>
              </a:rPr>
              <a:t>Eyes in the back of his head.</a:t>
            </a:r>
            <a:r>
              <a:rPr b="0" lang="ja-JP" sz="5600" spc="-1" strike="noStrike">
                <a:solidFill>
                  <a:srgbClr val="04617b"/>
                </a:solidFill>
                <a:latin typeface="Calibri"/>
              </a:rPr>
              <a:t>”</a:t>
            </a:r>
            <a:r>
              <a:rPr b="0" lang="en-US" sz="5600" spc="-1" strike="noStrike">
                <a:solidFill>
                  <a:srgbClr val="04617b"/>
                </a:solidFill>
                <a:latin typeface="Calibri"/>
              </a:rPr>
              <a:t> –Literally!</a:t>
            </a: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Content Placeholder 3" descr="eyes in back.jpg"/>
          <p:cNvPicPr/>
          <p:nvPr/>
        </p:nvPicPr>
        <p:blipFill>
          <a:blip r:embed="rId1"/>
          <a:stretch/>
        </p:blipFill>
        <p:spPr>
          <a:xfrm>
            <a:off x="0" y="1905120"/>
            <a:ext cx="10159920" cy="56656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4"/>
          <p:cNvSpPr/>
          <p:nvPr/>
        </p:nvSpPr>
        <p:spPr>
          <a:xfrm>
            <a:off x="965160" y="6826320"/>
            <a:ext cx="8991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etaphors  can be fun and make stories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nteresting and thought provo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etaphors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02680" y="1828800"/>
            <a:ext cx="9664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good metaphor – when you use words or images that most people are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familia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with or that people know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r example: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"A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av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error washed over him.</a:t>
            </a:r>
            <a:r>
              <a:rPr b="0" lang="ja-JP" sz="27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terror isn</a:t>
            </a:r>
            <a:r>
              <a:rPr b="0" lang="ja-JP" sz="27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 actually or literally a wave, but a wave is a good way of describing the feeling of terror because most people know what a wave is or looks like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"A wave of terror washed over him."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0" y="1625760"/>
            <a:ext cx="995688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t out a dollar bill.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42640" y="990360"/>
            <a:ext cx="9674280" cy="64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taphors are in many places. They are used in the Great Seal of the United States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pyramid on the left the eye at top is a symbol for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eye or the all knowing eye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y put that there b/c we are the first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world that was established based in reason and not just on the basis of warf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3 ranges 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Great Seal of the United States are symbol 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 inscription at the bottom is : roman numerals - 1776 represent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ovus Ordo Seclorum - a new world order is a metaphor for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nnuit Coeptis- He or the eye has smiled on our accomplishments is a metaphor for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Calibri"/>
              </a:rPr>
              <a:t>Bibliography</a:t>
            </a: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photos from Creative comm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gure  on beach – S. Parish on Goog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mexican flag – kalavinka on Flick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Danger cars sign–by @Doug88888 on Flick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on eats horse – Luke Robinson on Goog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yes in head- Random Places on Flick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nny metaphors from: http://www.mikekerr.com/humour-resources/free-articles/2222/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6780240" y="4267080"/>
            <a:ext cx="2289240" cy="15242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600" spc="-1" strike="noStrike">
                <a:solidFill>
                  <a:srgbClr val="04617b"/>
                </a:solidFill>
                <a:latin typeface="Calibri"/>
              </a:rPr>
              <a:t>Figurative Language= Figure of Speech</a:t>
            </a: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101520" rIns="101520" tIns="50760" bIns="50760" anchor="t">
            <a:normAutofit fontScale="97000"/>
          </a:bodyPr>
          <a:p>
            <a:pPr marL="293760" indent="-2937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g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ive Language: word or phrase that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epresents or describ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something  -it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figure or mental pi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3760" indent="-293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3760" indent="-2937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amiliar images - Used to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try to hel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ader or listener understand by giving them an image or mental pictu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3760" indent="-293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3760" indent="-2937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Fig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peech is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mage or meaning pointed to b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3760" indent="-293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speech or speak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not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d itself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3760" indent="-293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3760" indent="-2937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literal – not the face or surface value but the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deeper mea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111240" y="3352680"/>
            <a:ext cx="10048680" cy="42674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42640" y="299520"/>
            <a:ext cx="9674280" cy="10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gurative = </a:t>
            </a: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Metaphor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cal</a:t>
            </a: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79000" y="914040"/>
            <a:ext cx="96742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Metaphor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re a type of Figurative Language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060"/>
                </a:solidFill>
                <a:latin typeface="Arial"/>
              </a:rPr>
              <a:t>Symbol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re a type of Figurative Language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igurative language or metaphors stand for something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res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hing -  just lik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symbo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727280" y="6826320"/>
            <a:ext cx="60451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xas flag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symbo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ar in the flag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symbo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888840" y="22860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symbolizes or stands 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at mean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Content Placeholder 5" descr="sign by @Doug88888.jpg"/>
          <p:cNvPicPr/>
          <p:nvPr/>
        </p:nvPicPr>
        <p:blipFill>
          <a:blip r:embed="rId1"/>
          <a:stretch/>
        </p:blipFill>
        <p:spPr>
          <a:xfrm>
            <a:off x="0" y="1295280"/>
            <a:ext cx="110235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Metaphors &amp; symbols represent or are 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ymbol</a:t>
            </a: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ic of something.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0" y="2133720"/>
            <a:ext cx="10159920" cy="5584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4"/>
          <p:cNvSpPr/>
          <p:nvPr/>
        </p:nvSpPr>
        <p:spPr>
          <a:xfrm>
            <a:off x="4165560" y="2209680"/>
            <a:ext cx="507996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kull and cross bone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izes or is a metaph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wh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actice: metaphors are </a:t>
            </a:r>
            <a:r>
              <a:rPr b="0" lang="en-US" sz="4300" spc="-1" strike="noStrike">
                <a:solidFill>
                  <a:srgbClr val="0000ff"/>
                </a:solidFill>
                <a:latin typeface="Arial"/>
              </a:rPr>
              <a:t>symbol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the star &amp; stripes in the U.S. Flag represent or symbolize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'Light' in literature is a symbol or metaphor for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ood, wisdom, purity, virtu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'A path or road' in literature is a symbol or metaphor for?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w you live your life.  Your path in life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un? 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ood, wisdom, enlightenment or self-knowledge, virtu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closet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ding something, fear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mexican flag -with the eagle eating the snake? What does a snake symbolize or what is it a metaphor for? </a:t>
            </a:r>
            <a:br>
              <a:rPr sz="2300"/>
            </a:br>
            <a:r>
              <a:rPr b="0" lang="en-US" sz="2300" spc="-1" strike="noStrike">
                <a:solidFill>
                  <a:srgbClr val="04617b"/>
                </a:solidFill>
                <a:latin typeface="Calibri"/>
              </a:rPr>
              <a:t>How is it a symbol or metaphor for peace?</a:t>
            </a:r>
            <a:endParaRPr b="0" lang="en-US" sz="23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Content Placeholder 3" descr="3263818451_729a36f82e.jpg"/>
          <p:cNvPicPr/>
          <p:nvPr/>
        </p:nvPicPr>
        <p:blipFill>
          <a:blip r:embed="rId1"/>
          <a:stretch/>
        </p:blipFill>
        <p:spPr>
          <a:xfrm>
            <a:off x="279360" y="2475000"/>
            <a:ext cx="967752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phors are used to give the reader 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mage or </a:t>
            </a: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figur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of the spee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words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peech or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words themse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r example: 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ja-JP" sz="3200" spc="-1" strike="noStrike">
                <a:solidFill>
                  <a:srgbClr val="002060"/>
                </a:solidFill>
                <a:latin typeface="Constantia"/>
              </a:rPr>
              <a:t>“</a:t>
            </a:r>
            <a:r>
              <a:rPr b="0" lang="en-US" sz="3200" spc="-1" strike="noStrike">
                <a:solidFill>
                  <a:srgbClr val="002060"/>
                </a:solidFill>
                <a:latin typeface="Constantia"/>
              </a:rPr>
              <a:t>I am so hungry I could eat a horse</a:t>
            </a:r>
            <a:r>
              <a:rPr b="0" lang="ja-JP" sz="3200" spc="-1" strike="noStrike">
                <a:solidFill>
                  <a:srgbClr val="002060"/>
                </a:solidFill>
                <a:latin typeface="Constantia"/>
              </a:rPr>
              <a:t>”</a:t>
            </a:r>
            <a:r>
              <a:rPr b="0" lang="en-US" sz="32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onstantia"/>
              </a:rPr>
              <a:t>Figurative or metaphorical 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meaning: 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I am very hungry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e  </a:t>
            </a:r>
            <a:r>
              <a:rPr b="1" lang="en-US" sz="2900" spc="-1" strike="noStrike">
                <a:solidFill>
                  <a:srgbClr val="002060"/>
                </a:solidFill>
                <a:latin typeface="Constantia"/>
              </a:rPr>
              <a:t>actual or literal 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meaning:  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o eat an actual horse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n-US" sz="5600" spc="-1" strike="noStrike">
                <a:solidFill>
                  <a:srgbClr val="04617b"/>
                </a:solidFill>
                <a:latin typeface="Calibri"/>
              </a:rPr>
              <a:t>Yes that is the literal meaning.</a:t>
            </a: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5680" y="21337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What a big meal!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Yes – that is an actual horse  - literally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3" descr="horse.jpg"/>
          <p:cNvPicPr/>
          <p:nvPr/>
        </p:nvPicPr>
        <p:blipFill>
          <a:blip r:embed="rId1"/>
          <a:stretch/>
        </p:blipFill>
        <p:spPr>
          <a:xfrm>
            <a:off x="1574640" y="2666880"/>
            <a:ext cx="678204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e072719</cp:lastModifiedBy>
  <dcterms:modified xsi:type="dcterms:W3CDTF">2012-11-06T17:10:3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VFhdmIg5JfmaTjq5o-qYGsZpvkDiLT9RS4Wwbqcez9U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154.5604</vt:lpwstr>
  </property>
  <property fmtid="{D5CDD505-2E9C-101B-9397-08002B2CF9AE}" pid="5" name="Google.Documents.PreviousRevisionId">
    <vt:lpwstr>02731809325879839125</vt:lpwstr>
  </property>
  <property fmtid="{D5CDD505-2E9C-101B-9397-08002B2CF9AE}" pid="6" name="Google.Documents.RevisionId">
    <vt:lpwstr>13305810513302929072</vt:lpwstr>
  </property>
  <property fmtid="{D5CDD505-2E9C-101B-9397-08002B2CF9AE}" pid="7" name="Google.Documents.Tracking">
    <vt:lpwstr>true</vt:lpwstr>
  </property>
</Properties>
</file>